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BEB-A715-4622-9C1A-5FEE0882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ACC-8AC4-43EF-BA06-0EBD0975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F9D-8E86-406F-8D2F-7D3D9103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E9A-7ECA-4B34-975E-AA1A2226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16A-7B6F-4E12-B6C6-E037BE88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7FB-A4B7-4F34-B17F-7D014AA0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A8C-D7FE-45FE-80A1-09D101AB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6C0-2475-4E08-A4D8-38B2FFC4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52F-6121-4BFB-9976-F09F2252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9C2-004A-449F-8882-772C988C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8F1-F1AB-4306-8FF8-E4B4A956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E3D-8941-452E-B45E-4CF3B58C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29D7-B59B-4DB1-95E5-B1458282F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75240" y="0"/>
            <a:ext cx="5468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657600" cy="10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يا خبزَ الحياة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قـوتَ الأرواح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عربونَ النعيـ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أنتَ ابنُ البشـر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أنتَ ابنُ الإلهْ والإلهُ  الرحيـمْ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04812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لائكـة قيامْ بالخجل والوجل من بَهاكَ العظيم ونحنُ المساكين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كيف نَقبلُك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فمنـا ذا  الأثي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27672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في العَشا السري فاضَ بحرُ الجود وكان هو الجواد   وهَبَنـا ذاتَه خُبزاً وخَمراً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هوَ أّشرفُ ز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762120"/>
            <a:ext cx="4191120" cy="73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ُقبـلُ  حس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فيضُ نفس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أفضـل إمدا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لسـرٍ عجيـ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رِّ اللّهِ الرهي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يُحقُ أن يُعبـ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09480"/>
            <a:ext cx="367344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سرُّ الأسـرار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رُّ الأبـرار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قُدسُ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تقدي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عينُ الخيـرات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َبـدا وغاية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كلُّ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فضلٍ نفي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-271440"/>
            <a:ext cx="10744200" cy="8058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3429000" cy="11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ُها التائبون هلُّموا بإحترام واقتبلوا الإِلـ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و الذي يُعطى هو الذي يُعطِي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حمةً وحيـاة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4267080" cy="9788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لهـي رجائ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نَعيمي نِعمَتـي  لَذَتي المبتغــا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عم  لِنَقبَلـــك بالحبِ والشوق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عربونَ  النجـاة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6800" y="0"/>
            <a:ext cx="54072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28600"/>
            <a:ext cx="3505320" cy="83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ا لستُ أهلاً بل أنا تائــب بل أنا مأمــ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خبـزَ السمـا كُن لِيَ قوتــاً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ى دهرِ الدهور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7:08:41Z</dcterms:created>
  <dc:creator>SUZANNE.MD</dc:creator>
  <dc:description/>
  <dc:language>en-US</dc:language>
  <cp:lastModifiedBy>HANI SAFI</cp:lastModifiedBy>
  <dcterms:modified xsi:type="dcterms:W3CDTF">2003-04-16T13:48:33Z</dcterms:modified>
  <cp:revision>3</cp:revision>
  <dc:subject/>
  <dc:title>PowerPoint Presentation</dc:title>
</cp:coreProperties>
</file>